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8A71-EEE3-4E8C-B584-BC8E3BD61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1793-B899-4D11-9241-7C903047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BF2CC5-6056-4153-90F7-3C9E7F1D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194FF-410A-4E7F-9193-1931DE5D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E2FEB-D116-4697-AB6C-B1167A08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5ED93C-F00B-46CA-BE3E-F58430B2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B4777-EE5B-4539-8ACB-A79476A2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E15C23-4754-455E-9F5C-857E413D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46E8F-E822-4DFF-BCDF-1903B803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D28EA-13B2-4B7F-95BB-7B48D8DB7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AD8A0-0BD2-4E11-B3F7-9C50351F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302295-A1BE-484B-AE84-6B94F590E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EF36-8149-412F-84BF-2EC8999BE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E857A4-B3AB-45BA-81DF-8CAE8D41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3A5D12-26A6-4770-AFBB-22E341B0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BB17B-BB92-45F5-8B73-28718B7D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A8204-9CD1-4FC2-B33D-28570CCF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D4BA4B-EAE8-4341-AE40-B7F52719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B8E22-D5FE-4248-BB3B-9D3A2CA2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19A92-CF76-4AEE-9F97-7ED0820B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34D8BC-56D8-45E1-B576-22A98CF3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A0008-9437-49DE-BBF7-36E0D762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A67441-3F24-4C86-B665-7F7E9A978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6820-5F9C-4BD2-9EFC-25961786B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0629CA-959A-4471-B8AF-9BE66EFAF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3C7316-0E28-477D-A098-D96EB3786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2CD3E-1651-424C-8B83-A958E4A1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C1477-199D-44A5-8A9F-6E32F38F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A6D5A-48CA-4A5D-8AA0-5457D4F9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4F304-FB35-4C9E-A8CA-1A6C0923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334A1-259C-48D3-8134-DCA48973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9CEAA-E90D-493D-B273-4018ED0A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C0A7D-9D4C-48D5-931C-82D0F91A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639FD-C093-4499-A796-E005CBD5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C813-450F-42D9-8EC3-B8C2F279F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AA115-85A4-4AF4-8F26-2F32482C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D4B6D-7A05-43B6-AB3D-E874D7463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763C2-CA55-4A6F-A5E0-68C2BF699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0DA99B-DFEB-4E06-930D-7822383A3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62578D-C37B-4944-96DF-DC60E6AF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46899-53DC-4D1B-B511-84C0B16F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905286-63B5-4F17-8B8D-3B2DD7BE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981BE1-9404-4E27-9C27-C1A1EFAB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E586AA-8CDF-429C-A04D-45FD8EF1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7B1B92-D8C0-4BF2-8C9A-5CC067F0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E1B6-B3F5-4B6E-A026-AD7099CD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83A77-037D-4AA5-8110-6695FB1C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915F3-BB7A-4F55-B9CB-4E575959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4B6C09-5411-4D57-A5D9-EFD76AF0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BD3839-7BB4-4CB0-BDCF-91ACFDAF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62949-BFF8-45BF-8757-9FB101C8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D92B7B-9C61-48E3-882F-842360E6A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D99280-76C4-4B71-9786-6C8EA663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838D94-F98F-4368-8ADA-B194A57D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1BCFD0-DFAC-4E7B-97D6-F9FA3AB5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0446F7-E3B2-463F-B22D-FC7F7642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7F7F-E259-441A-9AC6-AB4BE457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48302C-F456-4EA9-A07D-698CF5DE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A23769-B62D-4AEC-8FE1-B33DA7D7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B64AA4-048B-486E-BC18-C23F1D90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87C455-E79D-43DA-94E5-DEA4A5AA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BA0618-D75C-4A2A-AA37-9A111916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FED039-088D-4BEA-A4AE-C3574B11A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1D1C9E-08A4-4A01-8BCF-CC497DA75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B1FADB-8E57-4AAB-81EC-E8D45906B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2300C8-5F18-42C3-A071-29C5ABB7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EAC0E6-D812-4878-A2BC-B2D15447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9AF2-4140-4A3A-9794-63F0734F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97C0EE-16F4-4977-86FC-625A5D66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895F34-FDAD-480C-9541-A2B2A21D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67F4FD-6BAE-408E-B6BA-CFD23B62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BDA930-3FA9-4914-87BE-81D3EA75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DA5CD7-CFB9-4551-9763-AC3E82FA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8C3F95-9FD5-4711-8434-2A18EFD0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594FE1-0645-4672-BAFB-01CD3F2C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649CC6-202A-4A41-92A9-71983100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460CBF-B0AF-4AB0-8DDB-37143329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F541DD-FA0D-46B5-9D96-FEDCF388C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339D-7411-4019-8275-C5A2499F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955358-2485-4650-867C-9BE648A7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A93D5B-1C3F-4FBE-90E5-2B4FA322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3A88F7-D295-41C0-8E11-02B53474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5147F3-882D-47C4-A3F0-EDDDAC61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F0795E-A438-41F9-BA31-E3CEDFB2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A2309E-BDC3-4B9F-A5BB-BD51AAA6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8141F9-A065-4053-A8E1-D2E27219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B8AE6C-1A94-4885-9214-F7C0D2AD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D63E0D-556B-4B15-817D-2E038B1D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FE38CE-91AD-4E2F-BD17-922C46E16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096F-F8BD-43F2-A1C8-850CEC6F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E4DC18-F262-437A-AE58-FCF6D8860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D9DFC2-B8B5-4018-927D-6030E166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213194-6E2D-4FA3-8448-FD7FF045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01F23A-B849-41FF-8D1D-E01045C8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83C42B-6A89-4790-9659-FA5E34BF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F9D937-FAF1-4C07-9098-9EABD829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C6A51D-3B82-4327-8EE7-E89A9B99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C2452F-0BD9-496A-893B-CC040FF4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3B4FB7-E446-46AD-B959-408AA62C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69379D-DE2B-4111-8583-D36099A2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5C0B-80AF-44D2-80F3-0F3C37A9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F19520-7293-4601-AA59-6BA3A1F5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0BD40A-B1E5-4A67-9260-EF1963C62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88B10C-9D30-41D1-BA4A-A13D42A6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1145E6-1B82-4B9F-BB71-02EB5355B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C4B6F9-AACE-49D3-986C-868BE705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D66745-C96C-4AA4-AB7B-EEB08C0B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C11066-3FFC-4A50-824D-F1DD539D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FF16E8-5ACA-45B4-BB0A-23D53923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D1FFC4-27B2-4A39-93A5-5E86CD78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6046DE-25D2-4595-8070-BA64544C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2A48-06CB-4AF4-A21D-36D329A9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3764-5AE0-4856-B911-D5E9A4DE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D32205-D180-4064-B9F5-8CF02798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AAEF5A-A23D-401D-B41A-30E541D5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3F5526-8733-4DFE-93B6-8E0A73EB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ABEADC-59E2-41BC-BEBB-89C8FC615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B64BBD-5012-4C0A-8A01-253D32CFC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E00EC8-0AA0-4F67-BFE2-1F74FC8C2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0E7625-7120-449D-8D08-B0755C71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43C938-731F-4F3A-87C5-F2ED2341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F4FA49-C621-4419-BD0A-9EF7280E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ACD65A-4265-4E37-BD44-A47382B5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AD29-A2CF-40CA-B8E5-1C762957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18EC24-AE6A-4934-B8A1-E1CEA104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009775-13F8-42D8-9C85-305737B5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FB732C-4C97-4307-9281-7D602CC7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ADEF37-63BB-4576-A68A-A327F386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E01F55-FAE1-479A-9A0A-A1471765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566477-1867-46B1-9E77-4AD2E40BA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9F10E5-35EF-469D-9835-2F46132FB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1FB393-DE67-4702-8C40-402EEA9B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B0D789-3AD6-4D79-8C11-264F9BFD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5F69FB-AC80-4764-BA77-1D1B6AB9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BD2F-69FC-41FD-B6AA-A01D043D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905200-8C6E-41AD-A50B-E1BBF63F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C5F0F9-08BF-4DD2-9BEC-1EFBA9F7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2C42C9-EDD5-4BA5-BD12-8AD6BE9C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15E7EF-C9BF-45F0-9751-786D1813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1C1D79-553B-46E7-8DDF-742F3701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2EE7C0-3741-45DC-9FC5-1756FBF3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4A5F0A-77A4-4638-AE7B-5AB55B8C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945768-A619-4B4C-B1E1-C97C2F96F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D43E9B-FFE9-42E5-A8BE-B45AB2C33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33EF39-3996-4DCB-A629-721957E64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4AC2-618E-455A-A7D4-AE79227A4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D227D5-8ADC-407B-9D9B-9D2F83AD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22D90C-3AE6-433C-B1FB-4CED4325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2F3484-1C81-4742-BA49-5E68E23B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012612-5AD6-43A0-9B53-D7B6F33D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E51BE3-0F9E-4924-BB54-ABD5E0C0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F8FEB2-3C28-4771-A8FC-8B670011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7BCF66-4405-493F-B5A9-1E04D20F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DBB47A-62E3-4571-99D7-D48F82AB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ACFF99-A98D-4CDA-870E-E21638B9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979147-C92F-4DE7-9B3C-3368521A6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B6B8-FE16-4A12-8650-401B577BC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F630C7-B8E0-4C4C-9277-F08524AA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1593CE-4188-4B82-B79A-2C61C12ED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37C63F-FE4A-4C3A-B53C-4E9B258C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B21FD6-113C-4193-99DB-8503C039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FFB2CC-2CA6-4DAC-B523-4697247B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059A47-F6DA-4ED1-8ED8-5F94BD72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6F8BC1-10A5-4910-825D-699B33BB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4D3A11-8885-4064-8BE0-70F11B74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44948B-946C-498B-8311-78D89D8F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06F780-5D55-4A9E-A9A2-E049A69F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C65DF-E936-4DE1-842E-83516573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22E2B9-EDD6-4808-BA8D-7EDB9673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B3EA93-1F65-4C19-9896-AB5614FA0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F15131-71FB-41C5-8D4C-02B041C1A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3B158-E68E-4171-B0CA-B1A6325E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55711-AC28-496D-8FCC-2F0AD320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87C99-80AA-4D96-BC05-9DE27369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447FD-7B87-45E2-990E-A93D28F9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56DB-BB1E-4815-9111-3127333C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528AE-3AD3-40B0-9BD1-35C570E6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468BF-EE1A-4B29-8D7A-DDD99C71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51DAB-47AD-426B-87EF-F486C0DE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0F433-4B74-4ADB-AD72-5479575C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34E53-5341-410A-B02E-DB977EA1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D02D1-E926-4393-A071-A73568E81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5BF19-ABAE-4CE5-8867-2737BBBB7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9216C-6908-4E8C-AE25-57B6C933A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A1248-752E-4402-B25E-C2AF43C4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8A0FB-6162-416C-9E9C-44F189DC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EF3A-B093-4DE6-AF10-BFF49454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5D142-796D-45BA-8673-4415FA6A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782F6-17E3-4974-B671-D7033B24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3BE74-E425-4001-85F2-7947C085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11E05-2545-4131-A274-F7BE2D0A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E5842-9BAB-4AE3-92FD-E4506433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B097F-B298-44F1-B308-AE467EC9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CC657-95EB-43B2-BD4C-E2B8E22F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571A9-7AE8-47D8-9136-EBE0A9D35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FAA1E-C2CD-4CFE-B2D7-16A366FE8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3D713-B87E-481B-9F0A-8E698E2FB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8967-9ABB-4A1C-8AF1-9264FEF6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26AA9-B6B1-4677-B619-3D538992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2E61E-3BB5-4253-93E3-3B570EF7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91149-FEDD-4E35-9F4C-9B3EFA93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D653D-CAD7-456F-98D2-44CE0F20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D0A7D-6369-4371-897B-351C9AB3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8265C-0556-45A2-B282-DC610C33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E4B86-DCB1-425F-B59B-476EAAC4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D4374-E6FD-4C33-9276-4A18A971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5B236-93A8-4DB6-A98C-185370CA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209F8-6606-4823-906B-0A211B35F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C748-BAED-4F27-B84A-0647DDB5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85D5C-AFC7-42AE-9729-BDF43DB20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CEFA5-36C9-4958-ABD0-E7B619AF7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A4E7A-5DCF-4203-9CB0-7B42F733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3D08B-6981-435E-A743-E9B719B6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79DD1-9DE2-4094-88F2-4022884C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0F8CD-AB76-4851-8C3B-FD37156A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A79CB-AA2A-4529-99B4-5F183313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6F902-F278-439F-AF6D-2541638A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A89A6-D8DF-4449-8774-4EF91AAC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4E2A3-F53A-4CF7-A96A-DCD24354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D41A-0191-466B-AEEA-FBDB0BCD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307A8-156B-496A-9A8D-691BF05D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A3C58-1FD2-4AE9-B0AD-D856A0C56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0AF6E-327D-4CF5-B081-2465702AB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1FCCA-1DE7-4D49-B407-4162BECDB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F1DC1-1992-426D-AA38-86926422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B8325-29AC-43AC-AFDF-207CD973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A47B7-11D3-41B5-A43B-A5C62834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2DA19-1964-47CE-B435-6296040D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18E28-CEBA-46B9-B8C8-AD1E0A41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A0111-5F3B-46A7-8575-EEE1BD71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AA2D-57AB-4DC6-AFB4-D7C712B2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791E8-9F57-4896-8AB4-B8C0EEAA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51884-A097-4589-911B-A1C48223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0D03C-6C9A-47AE-9DBC-FA4F6D66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F48E9-D7DB-4A30-9F57-1C8F7E00D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18829-1C1F-4A0A-949A-425E20C58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DD473-8406-4614-BDF0-7DED7ACBC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D9BD2-7395-419F-98E6-C010DFA4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BC501-754C-4C6D-B1F2-02149A01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5AE94-DC7C-4F27-92A3-415ACED0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2A58E-CA62-4F7A-8F15-9BEB8ADB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4506-7743-4208-A0F0-E391E21A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36E0F-001C-4087-B94B-AD9BA81F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32A56-6C2F-493A-9DD4-F8DCADB4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B4576-CEB9-498A-9A0C-F9D5A27B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729AF-CB18-462A-9C19-F9CC0CE2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B4DFC-2F22-468F-A3AF-1A3F364A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D03D1-1C6E-47EC-845A-12782B2ED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4415C-8011-4260-BFBC-9B85C08D1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13500-000B-4246-8F07-9C64994B5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A2838-E81E-49FE-818C-1A8B3061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23973-805F-41BF-AF9F-50122262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B7C7-91A0-48F6-97B7-0A303DE90D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F18D-9AF5-4002-8DB5-38FCB11488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D953-AF0D-4133-A36A-E5494F7209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A679-2BEA-4DD7-9225-5A917E6D2A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FEC4-4342-4E42-BF37-FADD601880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9593-E475-4B6D-98F6-A6C5BF90D7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A14A-FA09-4E54-A443-BEE9D19C7A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F604-F642-4DCA-A11A-80A1732762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E885-3FDA-426F-BC6E-6B687E76E5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3ABB-B6C3-4566-B330-289377CECE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ABD3-F2F9-4CED-95F6-69331F647D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CBE7-541E-4901-9491-5F43B51EE5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2CED-A87C-44B4-A400-9DF2FD2FC6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BA5B-296E-4EC2-8549-7C5B33774C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5533-D60C-4A0D-A132-84C77FC8A5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01F7-54BE-430C-84E8-D2E43F1F3C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E946-62B9-49CA-BB69-87B7695D96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4A7B-501C-4E7C-80BF-181E75C01E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5D43-99E1-4247-B1BB-A61423B994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C5A7-C3DE-4E88-9DCA-4D7DC78151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C7E5-A4D9-403F-941F-CBF03CEAB8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940A-7F15-4288-8548-4129A4EA24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34C7-F91A-4AE6-8FE6-14DA836EEC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DDC2-B7FB-4CB2-B10A-241AD3926B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2E5F-DB66-4972-8FC9-F9DBF91121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E0CE-8510-4F32-A282-F449FC2716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5341-227B-447C-87EA-AC491DF17D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F8C2-FD7C-44B5-AC56-B9193CEA4E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F783-7A03-47F5-BA95-DF36B2A3DE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DFED-6313-45BB-97F1-55EE97E3F7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BB2A-4D3E-4AAF-976A-AC25FB3D20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1A89-F649-4A01-8BC0-B0E178EABF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F0F9-55A1-44D2-A202-3D76A5D3E1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0C3C-DF1E-4E18-ABD4-1554A5F721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ECB6-075D-4B3D-9BB4-0BF114A72B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0F47-DC17-41C0-AA8B-6B58AA8507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370D-43AD-43E5-92A3-EE69B33239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F786-D2DE-44EF-B193-22349855DC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A427-6DCF-42AA-AE6F-A89649B8B3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F6CA-2631-4303-8A22-6A8E3F6E06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539640" y="2781360"/>
            <a:ext cx="80866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0428" descr=""/>
          <p:cNvPicPr/>
          <p:nvPr/>
        </p:nvPicPr>
        <p:blipFill>
          <a:blip r:embed="rId1"/>
          <a:stretch/>
        </p:blipFill>
        <p:spPr>
          <a:xfrm>
            <a:off x="1033560" y="1033560"/>
            <a:ext cx="7076880" cy="47908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1258920" y="2809800"/>
            <a:ext cx="6408720" cy="8492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1332000" y="3803760"/>
            <a:ext cx="6408720" cy="8492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1403280" y="4797360"/>
            <a:ext cx="640872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图片 59410" descr=""/>
          <p:cNvPicPr/>
          <p:nvPr/>
        </p:nvPicPr>
        <p:blipFill>
          <a:blip r:embed="rId1"/>
          <a:stretch/>
        </p:blipFill>
        <p:spPr>
          <a:xfrm>
            <a:off x="1438200" y="1009800"/>
            <a:ext cx="6267600" cy="48384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2"/>
          <a:stretch/>
        </p:blipFill>
        <p:spPr>
          <a:xfrm>
            <a:off x="1763640" y="2924280"/>
            <a:ext cx="4608720" cy="8650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835280" y="3860640"/>
            <a:ext cx="4608360" cy="8654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692360" y="4913280"/>
            <a:ext cx="460836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图片 58373" descr=""/>
          <p:cNvPicPr/>
          <p:nvPr/>
        </p:nvPicPr>
        <p:blipFill>
          <a:blip r:embed="rId1"/>
          <a:stretch/>
        </p:blipFill>
        <p:spPr>
          <a:xfrm>
            <a:off x="237960" y="657360"/>
            <a:ext cx="8668080" cy="55432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2"/>
          <a:stretch/>
        </p:blipFill>
        <p:spPr>
          <a:xfrm>
            <a:off x="639720" y="2435400"/>
            <a:ext cx="6840720" cy="8492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3"/>
          <a:stretch/>
        </p:blipFill>
        <p:spPr>
          <a:xfrm>
            <a:off x="7510320" y="2392200"/>
            <a:ext cx="1440000" cy="8208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4"/>
          <a:stretch/>
        </p:blipFill>
        <p:spPr>
          <a:xfrm>
            <a:off x="611280" y="3386160"/>
            <a:ext cx="2808360" cy="8208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5"/>
          <a:stretch/>
        </p:blipFill>
        <p:spPr>
          <a:xfrm>
            <a:off x="3376440" y="3386160"/>
            <a:ext cx="5588280" cy="82080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6"/>
          <a:stretch/>
        </p:blipFill>
        <p:spPr>
          <a:xfrm>
            <a:off x="684360" y="4379760"/>
            <a:ext cx="3095640" cy="8208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7"/>
          <a:stretch/>
        </p:blipFill>
        <p:spPr>
          <a:xfrm>
            <a:off x="3780000" y="4379760"/>
            <a:ext cx="5113080" cy="8208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8"/>
          <a:stretch/>
        </p:blipFill>
        <p:spPr>
          <a:xfrm>
            <a:off x="482760" y="5359320"/>
            <a:ext cx="143964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图片 57352" descr=""/>
          <p:cNvPicPr/>
          <p:nvPr/>
        </p:nvPicPr>
        <p:blipFill>
          <a:blip r:embed="rId1"/>
          <a:stretch/>
        </p:blipFill>
        <p:spPr>
          <a:xfrm>
            <a:off x="262080" y="576360"/>
            <a:ext cx="8619840" cy="57052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684360" y="3514680"/>
            <a:ext cx="8280360" cy="8064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611280" y="4508640"/>
            <a:ext cx="8280360" cy="80640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4"/>
          <a:stretch/>
        </p:blipFill>
        <p:spPr>
          <a:xfrm>
            <a:off x="539640" y="5445000"/>
            <a:ext cx="828036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56324" descr=""/>
          <p:cNvPicPr/>
          <p:nvPr/>
        </p:nvPicPr>
        <p:blipFill>
          <a:blip r:embed="rId1"/>
          <a:stretch/>
        </p:blipFill>
        <p:spPr>
          <a:xfrm>
            <a:off x="266760" y="343080"/>
            <a:ext cx="8610480" cy="61722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8353440" cy="7923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468360" y="3341520"/>
            <a:ext cx="8353440" cy="7923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395280" y="4351320"/>
            <a:ext cx="8353440" cy="7923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5"/>
          <a:stretch/>
        </p:blipFill>
        <p:spPr>
          <a:xfrm>
            <a:off x="366840" y="5286240"/>
            <a:ext cx="83534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图片 55300" descr=""/>
          <p:cNvPicPr/>
          <p:nvPr/>
        </p:nvPicPr>
        <p:blipFill>
          <a:blip r:embed="rId1"/>
          <a:stretch/>
        </p:blipFill>
        <p:spPr>
          <a:xfrm>
            <a:off x="276120" y="428760"/>
            <a:ext cx="8591760" cy="6000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639720" y="2276640"/>
            <a:ext cx="3240000" cy="4474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3"/>
          <a:stretch/>
        </p:blipFill>
        <p:spPr>
          <a:xfrm>
            <a:off x="3909960" y="2060640"/>
            <a:ext cx="3240000" cy="8636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4"/>
          <a:stretch/>
        </p:blipFill>
        <p:spPr>
          <a:xfrm>
            <a:off x="755640" y="3068640"/>
            <a:ext cx="6696000" cy="8636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5"/>
          <a:stretch/>
        </p:blipFill>
        <p:spPr>
          <a:xfrm>
            <a:off x="784080" y="4062240"/>
            <a:ext cx="8066160" cy="145440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6"/>
          <a:stretch/>
        </p:blipFill>
        <p:spPr>
          <a:xfrm>
            <a:off x="755640" y="5618160"/>
            <a:ext cx="43210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图片 54276" descr=""/>
          <p:cNvPicPr/>
          <p:nvPr/>
        </p:nvPicPr>
        <p:blipFill>
          <a:blip r:embed="rId1"/>
          <a:stretch/>
        </p:blipFill>
        <p:spPr>
          <a:xfrm>
            <a:off x="247680" y="947880"/>
            <a:ext cx="8648640" cy="49622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2"/>
          <a:stretch/>
        </p:blipFill>
        <p:spPr>
          <a:xfrm>
            <a:off x="684360" y="2549520"/>
            <a:ext cx="8208720" cy="4478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3"/>
          <a:stretch/>
        </p:blipFill>
        <p:spPr>
          <a:xfrm>
            <a:off x="684360" y="3198960"/>
            <a:ext cx="5327640" cy="10220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4"/>
          <a:stretch/>
        </p:blipFill>
        <p:spPr>
          <a:xfrm>
            <a:off x="468360" y="4292640"/>
            <a:ext cx="8209080" cy="4474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5"/>
          <a:stretch/>
        </p:blipFill>
        <p:spPr>
          <a:xfrm>
            <a:off x="611280" y="4811760"/>
            <a:ext cx="669744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2T09:04:20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